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D58A-EC8C-41D1-9A31-40B5AAD9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1BF9-161A-411F-8774-9985DF16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56C0-74D8-4D17-8ED6-CBFE726A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C49-3E9A-4273-AD62-8A302BCA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BBE9-DCDF-418F-A8C3-16A9C4E0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CFF3-3456-4365-B40B-EAF212E9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86C9-7803-4899-8500-AD80741B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4928-5B4B-4F40-9626-3A738F5C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C6C9-AF00-43B4-94FD-15455ECD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B049-52C6-4B23-B5D3-8F9D5519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CCB3-2EF4-45BD-82A7-CDF3FAA0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297B-D5E2-4B69-A24E-699A3E6D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78BE-BFE3-4EEC-8454-DFE3B6B2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9A8B-3C0A-40AF-8B58-31634CC8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B441-75ED-4295-A06E-D88D0940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EC09-10FD-486D-909B-1AE4D95B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4533-6FBA-42AA-ADCE-2CE4467C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04D72-6256-4E7D-9DD8-3169DB1D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FF416-0BE8-4CE0-A68B-78A448DA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FCFE5-460D-425D-B0DD-A996C0E6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4B354-D271-41D6-84DA-1A95ED30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7E359-3E01-4155-9CCC-301B0FDB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5245-3F22-4860-86C2-9E938D02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A4C41-F3A0-4012-9E36-C4E9DCB8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9FDED-C63C-46DC-906B-BED2868A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09E4B-DDA9-428B-9365-099B4D7B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083AD-8633-43B4-BCDE-EFC0DD7D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41BFF-9875-4EDA-A03D-04BCAD8C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1936E-455F-4983-9009-4A774C76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4D43E-74D3-40C9-842E-B6EBD695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348D9-4330-409B-98B9-C38E3AF0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8F7F5-4FFA-437B-B434-28A0EA2F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52838-22D3-4047-BAE4-78E91930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D16-3C55-4596-988F-F55A7AC7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5B6E2-003B-4C35-9A8B-46858B8F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8CF45-818B-4861-B028-BB5BEDA5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B64B8-DE5B-436F-9417-DBE0885D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C36E6-BA40-4952-9ABD-790C017C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A8861-FA9E-47F6-92A7-03A2FC89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0220F-377D-483D-B50A-17730B0D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072A3-A76E-4916-B128-2A4778FA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67910-AF5A-430E-BCD0-D86032B4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DB341-0768-4C9C-AC0D-5E083D12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2CC-7059-4C08-9A68-1561422C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799-91BF-44BD-8058-B4E665CB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24BB-6CD1-46C7-808C-B03E8E80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4E15-BB9D-489E-8B87-C204FC3A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07AB-832C-4BB9-BA15-CB593671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F568-CD63-4EBA-9297-D9B633D16E6B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6259-CE49-478D-A899-D35155D6DAD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56E6-731F-4964-9CB7-3C82839E089C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094E-5982-421C-BFF9-F0911D9C6A2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6"/>
          <p:cNvSpPr/>
          <p:nvPr/>
        </p:nvSpPr>
        <p:spPr>
          <a:xfrm>
            <a:off x="160200" y="144360"/>
            <a:ext cx="8831520" cy="6561360"/>
          </a:xfrm>
          <a:prstGeom prst="roundRect">
            <a:avLst>
              <a:gd name="adj" fmla="val 3912"/>
            </a:avLst>
          </a:prstGeom>
          <a:noFill/>
          <a:ln w="1260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EEFE-1244-4801-8F9E-39E693ED12DD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92E2-D90C-4FD9-A007-DD212D9D615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6357-329C-46EB-8267-05F428E0B03E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7E66-58F2-48EE-B3D0-534C2ED8499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4"/>
          <p:cNvSpPr/>
          <p:nvPr/>
        </p:nvSpPr>
        <p:spPr>
          <a:xfrm>
            <a:off x="973800" y="367200"/>
            <a:ext cx="70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Verdana"/>
              </a:rPr>
              <a:t>TỔNG HỢP SLIDE - TEMPLATES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ounded Rectangle 8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Rectangle 9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68" name="Rounded Rectangle 14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169" name="Rectangle 47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70" name="Rectangle 48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171" name="Oval 22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Group 24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173" name="Up Arrow 21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Round Same Side Corner Rectangle 23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5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48080"/>
          </a:xfrm>
          <a:prstGeom prst="rect">
            <a:avLst/>
          </a:prstGeom>
          <a:ln w="0">
            <a:noFill/>
          </a:ln>
        </p:spPr>
      </p:pic>
      <p:pic>
        <p:nvPicPr>
          <p:cNvPr id="176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14680"/>
          </a:xfrm>
          <a:prstGeom prst="rect">
            <a:avLst/>
          </a:prstGeom>
          <a:ln w="0">
            <a:noFill/>
          </a:ln>
        </p:spPr>
      </p:pic>
      <p:sp>
        <p:nvSpPr>
          <p:cNvPr id="177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224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5-Point Star 58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Group 59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180" name="Group 65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181" name="Oval 27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bdd5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3371a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Oval 7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9bc0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224c71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7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75a7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18355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57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5996cd"/>
                </a:solidFill>
                <a:latin typeface="Arial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7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3371a9"/>
                </a:solidFill>
                <a:latin typeface="Arial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8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224c71"/>
                </a:solidFill>
                <a:latin typeface="Arial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28"/>
          <p:cNvSpPr/>
          <p:nvPr/>
        </p:nvSpPr>
        <p:spPr>
          <a:xfrm>
            <a:off x="2955960" y="4746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AIMIENPHI.V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82"/>
          <p:cNvSpPr/>
          <p:nvPr/>
        </p:nvSpPr>
        <p:spPr>
          <a:xfrm>
            <a:off x="2895480" y="3428640"/>
            <a:ext cx="167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OP TEMPL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83"/>
          <p:cNvSpPr/>
          <p:nvPr/>
        </p:nvSpPr>
        <p:spPr>
          <a:xfrm>
            <a:off x="2971800" y="2284920"/>
            <a:ext cx="167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OP SLI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ounded Rectangle 8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Rectangle 9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93" name="Rounded Rectangle 14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47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95" name="Rectangle 48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196" name="Oval 22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Group 24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198" name="Up Arrow 21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ound Same Side Corner Rectangle 23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0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36920"/>
          </a:xfrm>
          <a:prstGeom prst="rect">
            <a:avLst/>
          </a:prstGeom>
          <a:ln w="0">
            <a:noFill/>
          </a:ln>
        </p:spPr>
      </p:pic>
      <p:pic>
        <p:nvPicPr>
          <p:cNvPr id="201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02080"/>
          </a:xfrm>
          <a:prstGeom prst="rect">
            <a:avLst/>
          </a:prstGeom>
          <a:ln w="0">
            <a:noFill/>
          </a:ln>
        </p:spPr>
      </p:pic>
      <p:sp>
        <p:nvSpPr>
          <p:cNvPr id="202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5-Point Star 58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Group 59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205" name="Group 65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206" name="Oval 27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eba7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b24d1d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7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d788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8a2e4e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Oval 7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cd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87439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Oval 57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de6c36"/>
                </a:solidFill>
                <a:latin typeface="Arial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val 7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b83d68"/>
                </a:solidFill>
                <a:latin typeface="Arial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8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ac66bb"/>
                </a:solidFill>
                <a:latin typeface="Arial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28"/>
          <p:cNvSpPr/>
          <p:nvPr/>
        </p:nvSpPr>
        <p:spPr>
          <a:xfrm>
            <a:off x="2955960" y="474660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82"/>
          <p:cNvSpPr/>
          <p:nvPr/>
        </p:nvSpPr>
        <p:spPr>
          <a:xfrm>
            <a:off x="2955960" y="3414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83"/>
          <p:cNvSpPr/>
          <p:nvPr/>
        </p:nvSpPr>
        <p:spPr>
          <a:xfrm>
            <a:off x="2955960" y="211932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6"/>
          <p:cNvSpPr/>
          <p:nvPr/>
        </p:nvSpPr>
        <p:spPr>
          <a:xfrm>
            <a:off x="7050600" y="650556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d9d9d9"/>
                </a:solidFill>
                <a:latin typeface="Arial"/>
                <a:ea typeface="Calibri"/>
              </a:rPr>
              <a:t>www.PowerPointDep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ounded Rectangle 41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Rectangle 42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19" name="Rounded Rectangle 43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220" name="Rectangle 44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21" name="Rectangle 45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222" name="Oval 46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Group 47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224" name="Up Arrow 48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ound Same Side Corner Rectangle 49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6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38360"/>
          </a:xfrm>
          <a:prstGeom prst="rect">
            <a:avLst/>
          </a:prstGeom>
          <a:ln w="0">
            <a:noFill/>
          </a:ln>
        </p:spPr>
      </p:pic>
      <p:pic>
        <p:nvPicPr>
          <p:cNvPr id="227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04960"/>
          </a:xfrm>
          <a:prstGeom prst="rect">
            <a:avLst/>
          </a:prstGeom>
          <a:ln w="0">
            <a:noFill/>
          </a:ln>
        </p:spPr>
      </p:pic>
      <p:sp>
        <p:nvSpPr>
          <p:cNvPr id="228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5-Point Star 53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Group 54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231" name="Group 57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232" name="Oval 65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c8a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705032"/>
                </a:solidFill>
                <a:latin typeface="Calibri"/>
                <a:ea typeface="SimSu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Oval 6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bdbf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6c6f4c"/>
                </a:solidFill>
                <a:latin typeface="Calibri"/>
                <a:ea typeface="SimSu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6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fec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d77c01"/>
                </a:solidFill>
                <a:latin typeface="Calibri"/>
                <a:ea typeface="SimSu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68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956b43"/>
                </a:solidFill>
                <a:latin typeface="Calibri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6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909465"/>
                </a:solidFill>
                <a:latin typeface="Calibri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7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fea022"/>
                </a:solidFill>
                <a:latin typeface="Calibri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71"/>
          <p:cNvSpPr/>
          <p:nvPr/>
        </p:nvSpPr>
        <p:spPr>
          <a:xfrm>
            <a:off x="2955960" y="474660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72"/>
          <p:cNvSpPr/>
          <p:nvPr/>
        </p:nvSpPr>
        <p:spPr>
          <a:xfrm>
            <a:off x="2955960" y="3414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73"/>
          <p:cNvSpPr/>
          <p:nvPr/>
        </p:nvSpPr>
        <p:spPr>
          <a:xfrm>
            <a:off x="2955960" y="211932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35"/>
          <p:cNvSpPr/>
          <p:nvPr/>
        </p:nvSpPr>
        <p:spPr>
          <a:xfrm>
            <a:off x="7131240" y="650556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d9d9d9"/>
                </a:solidFill>
                <a:latin typeface="Calibri"/>
                <a:ea typeface="SimSun"/>
              </a:rPr>
              <a:t>www.PowerPointDep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ounded Rectangle 41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Rectangle 42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45" name="Rounded Rectangle 43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246" name="Rectangle 44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45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248" name="Oval 46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 47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250" name="Up Arrow 48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Round Same Side Corner Rectangle 49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2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38360"/>
          </a:xfrm>
          <a:prstGeom prst="rect">
            <a:avLst/>
          </a:prstGeom>
          <a:ln w="0">
            <a:noFill/>
          </a:ln>
        </p:spPr>
      </p:pic>
      <p:pic>
        <p:nvPicPr>
          <p:cNvPr id="253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04960"/>
          </a:xfrm>
          <a:prstGeom prst="rect">
            <a:avLst/>
          </a:prstGeom>
          <a:ln w="0">
            <a:noFill/>
          </a:ln>
        </p:spPr>
      </p:pic>
      <p:sp>
        <p:nvSpPr>
          <p:cNvPr id="254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5-Point Star 53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Group 54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257" name="Group 57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258" name="Oval 65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dff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6f9500"/>
                </a:solidFill>
                <a:latin typeface="Calibri"/>
                <a:ea typeface="SimSu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Oval 6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d0f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4a6300"/>
                </a:solidFill>
                <a:latin typeface="Calibri"/>
                <a:ea typeface="SimSu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Oval 6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c4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354800"/>
                </a:solidFill>
                <a:latin typeface="Calibri"/>
                <a:ea typeface="SimSu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Oval 68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94c600"/>
                </a:solidFill>
                <a:latin typeface="Calibri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Oval 6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6f9500"/>
                </a:solidFill>
                <a:latin typeface="Calibri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Oval 7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4a6300"/>
                </a:solidFill>
                <a:latin typeface="Calibri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71"/>
          <p:cNvSpPr/>
          <p:nvPr/>
        </p:nvSpPr>
        <p:spPr>
          <a:xfrm>
            <a:off x="2955960" y="474660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72"/>
          <p:cNvSpPr/>
          <p:nvPr/>
        </p:nvSpPr>
        <p:spPr>
          <a:xfrm>
            <a:off x="2955960" y="3414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73"/>
          <p:cNvSpPr/>
          <p:nvPr/>
        </p:nvSpPr>
        <p:spPr>
          <a:xfrm>
            <a:off x="2955960" y="211932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35"/>
          <p:cNvSpPr/>
          <p:nvPr/>
        </p:nvSpPr>
        <p:spPr>
          <a:xfrm>
            <a:off x="7131240" y="650556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d9d9d9"/>
                </a:solidFill>
                <a:latin typeface="Calibri"/>
                <a:ea typeface="SimSun"/>
              </a:rPr>
              <a:t>www.PowerPointDep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7:15:53Z</dcterms:created>
  <dc:creator>dell</dc:creator>
  <dc:description/>
  <dc:language>en-US</dc:language>
  <cp:lastModifiedBy>MavisVermillion</cp:lastModifiedBy>
  <dcterms:modified xsi:type="dcterms:W3CDTF">2016-05-16T09:08:46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